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79C-3ACB-469C-BF79-657A3ED3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37D-87DD-4E48-B36C-59FC582F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F61-7FCE-4E41-B4C4-70340C45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59D-8A1A-4C03-8259-A672A1F1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7EB-905F-48C6-B2F6-F0FF142C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C9C-2B5C-43DF-9822-5F2AAD80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512-3331-4FEB-9E6B-2A4DB35A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B1A-8492-4D7D-BC03-00ED3930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1880-67A2-45F8-86AA-0ED39D22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CBC-1931-4946-827C-545A147C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8F4-9C14-4D07-B039-83F20348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7EE-5963-4139-A533-05235CED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CB08-D7F2-4181-8333-3BD0D822A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7120" y="1638360"/>
            <a:ext cx="8141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c0c0"/>
                </a:solidFill>
                <a:latin typeface="Comic Sans MS"/>
              </a:rPr>
              <a:t>Игорь Б.Бурдон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040" y="3740040"/>
            <a:ext cx="9356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c0c0"/>
                </a:solidFill>
                <a:latin typeface="Comic Sans MS"/>
              </a:rPr>
              <a:t>и Клуб «Подвал № 1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73400" y="3149640"/>
            <a:ext cx="1219320" cy="50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314960" y="995400"/>
            <a:ext cx="514080" cy="504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24480" y="6921360"/>
            <a:ext cx="95040" cy="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8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8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22360" y="458640"/>
            <a:ext cx="8101080" cy="6075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5920" y="458640"/>
            <a:ext cx="8397720" cy="606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22360" y="458640"/>
            <a:ext cx="8099280" cy="6075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22360" y="458640"/>
            <a:ext cx="8101080" cy="60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22360" y="458640"/>
            <a:ext cx="8099280" cy="6075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22360" y="458640"/>
            <a:ext cx="8099280" cy="60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22360" y="458640"/>
            <a:ext cx="8099280" cy="607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22360" y="458640"/>
            <a:ext cx="8099280" cy="60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2360" y="458640"/>
            <a:ext cx="8099280" cy="6075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22360" y="458640"/>
            <a:ext cx="8099280" cy="60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2360" y="458640"/>
            <a:ext cx="8099280" cy="6075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2360" y="458640"/>
            <a:ext cx="8099280" cy="60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2360" y="458640"/>
            <a:ext cx="8099280" cy="6075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2360" y="458640"/>
            <a:ext cx="8099280" cy="60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11280" y="458640"/>
            <a:ext cx="4556160" cy="6075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22360" y="458640"/>
            <a:ext cx="8099280" cy="60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45864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411280" y="458640"/>
            <a:ext cx="4556160" cy="60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66640" y="458640"/>
            <a:ext cx="8101080" cy="607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9640" y="45864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67920" y="2843280"/>
            <a:ext cx="3516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Comic Sans MS"/>
              </a:rPr>
              <a:t>представля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24480" y="6921360"/>
            <a:ext cx="95040" cy="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6640" y="458640"/>
            <a:ext cx="4556160" cy="6075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66640" y="458640"/>
            <a:ext cx="8101080" cy="60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257560"/>
            <a:ext cx="9144000" cy="4276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66640" y="458640"/>
            <a:ext cx="4556160" cy="60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2257560"/>
            <a:ext cx="9144000" cy="42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8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23328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55480"/>
            <a:ext cx="9144000" cy="6069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233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555480"/>
            <a:ext cx="9144000" cy="606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150920" y="4016520"/>
            <a:ext cx="735336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БО, МОРЕ, БЕРЕГ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6000" y="1449360"/>
            <a:ext cx="45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Игорь Воскресенский</a:t>
            </a:r>
            <a:endParaRPr b="1" lang="en-US" sz="1800" spc="1" strike="noStrike">
              <a:ln w="158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3200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32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58640"/>
            <a:ext cx="9144000" cy="6069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7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6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7000" fill="hold"/>
                                        <p:tgtEl>
                                          <p:spTgt spid="5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69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695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4305" fill="hold">
                                          <p:stCondLst>
                                            <p:cond delay="269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269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4305" fill="hold">
                                          <p:stCondLst>
                                            <p:cond delay="269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269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4305" fill="hold">
                                          <p:stCondLst>
                                            <p:cond delay="269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99de"/>
              </a:gs>
              <a:gs pos="100000">
                <a:srgbClr val="ffebfa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79320" y="647640"/>
            <a:ext cx="6168240" cy="41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Aft>
                <a:spcPts val="7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тографии Игоря Воскресен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N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THE FLAME WITHIN”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альбо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IF I COLD TELL YO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9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а изображений, звука и анимац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орь Бурд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159080" y="7124760"/>
            <a:ext cx="95400" cy="9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7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6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6" dur="7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69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2695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1" dur="4305" fill="hold">
                                          <p:stCondLst>
                                            <p:cond delay="269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" dur="269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3" dur="4305" fill="hold">
                                          <p:stCondLst>
                                            <p:cond delay="269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269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5" dur="4305" fill="hold">
                                          <p:stCondLst>
                                            <p:cond delay="269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8000"/>
                            </p:stCondLst>
                            <p:childTnLst>
                              <p:par>
                                <p:cTn id="3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7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6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7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6000"/>
                            </p:stCondLst>
                            <p:childTnLst>
                              <p:par>
                                <p:cTn id="3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9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55760"/>
            <a:ext cx="9144000" cy="6068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58640"/>
            <a:ext cx="9144000" cy="606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58640"/>
            <a:ext cx="9144000" cy="6069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455760"/>
            <a:ext cx="9144000" cy="606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58640"/>
            <a:ext cx="9144000" cy="6069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458640"/>
            <a:ext cx="9144000" cy="606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58640"/>
            <a:ext cx="9144000" cy="6069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58640"/>
            <a:ext cx="9144000" cy="606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5920" y="458640"/>
            <a:ext cx="8397720" cy="606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458640"/>
            <a:ext cx="9144000" cy="606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1:18:52Z</dcterms:created>
  <dc:creator>Burdonov</dc:creator>
  <dc:description/>
  <dc:language>en-US</dc:language>
  <cp:lastModifiedBy>Igor Borisovich</cp:lastModifiedBy>
  <dcterms:modified xsi:type="dcterms:W3CDTF">2008-10-01T14:58:23Z</dcterms:modified>
  <cp:revision>16</cp:revision>
  <dc:subject/>
  <dc:title>Слайд 1</dc:title>
</cp:coreProperties>
</file>